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7298-8DA4-43A3-B425-F32DA412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9058-850C-477C-BB59-F8129575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0A88-C099-4DCE-9F22-A5103EB6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83A6-73B2-4BE7-AC67-61872683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9315-9DB1-4F8C-AC14-6D51309F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5E8B-57B4-461C-864E-61794E16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9799-33D9-4D58-9F13-42DA062D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4F45-8BBD-4C52-A01A-CA1196A2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18CA-9460-49C5-A361-B5A05471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1A4A-3645-463F-9946-94564212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7020-AF24-4293-AFB3-13D30F2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49B7-68FF-4475-AD18-1FF9AAB5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5165-A953-45B7-81DE-DFEC8AE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BC14-C64F-499F-B7AB-509A4BBA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5D96-C88B-4ED0-96A9-DEB0CE2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B470-2BC7-4854-9100-CE63A6A2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6D91-EA82-49FF-9B60-F38483D4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808E-5E55-4856-9909-8397F2BD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CA36D-515B-48FE-8FA2-BFAED364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8BA7-A908-45AE-95D1-0E247EEC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FE9C-FF8C-4918-96FA-AF1E8202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56A6-CA17-4B48-8609-B2E96A1B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A15C-8B6C-4203-833E-08FE5E41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17CA-A52E-4D15-A2E1-D864819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9DB0-1654-412B-9F5A-F8B682D47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CEB4-048E-4B21-8236-9A8070AA7B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ffects of Technology Use in Literacy Instruc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ie Har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ucation 702.2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ll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Digital Storytellin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obin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mpasses multiple literac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studies cond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Audiobook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olfson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read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CD Projector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lack, Brill, Eber, &amp; Suomala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student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ing scores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4037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ment of the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1: The reading comprehension skills and motivation to read of twenty-seven Second-grade students in P.S. X will increase if technology is integrated into their reading activities over the course of four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Partici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Second-Grade students in P.S.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8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 males and 16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2682720"/>
            <a:ext cx="40384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nt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ve white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9240" y="1523880"/>
            <a:ext cx="3176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one, D., &amp; Wright, T. E. (2008). Literacy instruction with digital and media technologi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Read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cher, 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2-302. Retrieved September 20, 2009, from Academic Search Premier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, N., Brill, A., Eber, D., &amp; Suomala, L. (2005, July)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ing technology to compare the instructiona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ffectiveness of read aloud and read along materials in an elementary classroo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2, 2009, from ERIC database. (Eric Document Reproduction No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496975)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Jong, M. T., &amp; Bus, A. G. (2002). Quality of book-reading matters for emergent readers: An experiment with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book in a regular or electronic format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Educational Psychology, 9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-155. 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ber 11, 2009, from PsycARTICLES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y, D. E., Popplewell, S. R., &amp; Byers, G. O. (2001). Interactive CD-ROM storybooks and young readers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prehensio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Research on Computing in Education,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, 374-384. 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3, 2009, from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ademic Search Premier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nn and Dunn learning style model of instructio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.d.). Retrieved November 20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thica.dk/doc_uflash/The%20Dunn%20and%20Dunn%20Learning%20Style%20Model%20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20Instruc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dner, H. (2000)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n technology exploit our many ways of knowing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trieved October 10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owardgardner.com/docs/Can%20Technology%20Exploit%20Our%20Many%20Ways%20of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nowing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dner, H., &amp; Walters, J. (1993). A rounded version. In F. Schultz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able Selections in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p. 308-318). Connecticut: McGraw-Hill/Dush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mshaw, S., Dungworth, N., McKnight, C., &amp; Morris, A. (2007, July). Electronic books: Children’s read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omprehensio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itish Journal of Educational Technology, 3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3-599. 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3, 2009, from 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ya, M., O’Connor-Petruso, S,A,, &amp; Girelli-Carasi, F. (2010). Literacy – A critical constituent for successf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ization. In S.A. O’Connor-Petruso &amp; F. Girelli-Carasi (Eds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lobalization: Technology, Literacy &amp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urriculu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. 3). New York: Pearson Custom Publishin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ever-Davis, S., &amp; Pearman, C. (2005, February). Early readers and electronic texts: CD-ROM storyboo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that influence reading behavior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ding Teacher, 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6-454. 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2, 2009, from 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hew, K. (1997). A comparison of the influence of interactive CD-ROM storybooks and traditional pri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books on reading comprehensio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Research on Computing in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, 263-75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ctober 1, 2009, from Academic Search Premier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il, E. (2007). Laptop technology and pedagogy in the English language arts classroom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chnology &amp; Teacher Education,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9-85. Retrieved October 11, 2009, from Education Resear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oduser, D., Tur-Kaspa, H., &amp; Leitner, I. (2000, March). The learning value of computer-based instruction of ear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kill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Computer Assisted Learning, 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 54-63. Retrieved October 18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lin, G. (2005, September). Hoover elementary turns to LeapFrog SchoolHouse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H.E. Journal,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September 17, 2009, from Academic Search Complete data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w York City students make progress in every grade on state reading t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009, May7). Retrieved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hools.nyc.gov/Offices/mediarelations/NewsandSpeeches/2008-2009/20090507_el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man, C. J. (2008, May). Independent reading of CD-ROM storybooks: Measuring comprehension with or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elling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ding Teacher, 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8), 594-602. Retrieved October 16, 2009, from Education Resear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man, C. J., &amp; Lefever-Davis, S. (2006, March). Supporting the essential elements with CD-ROM storybook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ding Horizons Journal, 4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, 301-313. Retrieved September 17, 2009 from Education Full 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des, J. A., &amp; Milby, T. M. (2007, November). Teacher-created electronic books: Integrating technolog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readers with disabiliti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Reading Teacher, 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, 255-259. Retrieved October 16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TOR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ci, C. M, &amp; Beal, C. R. (2002, March). The effect of interactive media on children’s story memory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tional Psychology, 9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8-144. Retrieved October 3, 2009, from PsycARTICLES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in, B. R. (2008). Digital storytelling: A powerful technology tool for the 21st century classroom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ory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o Pract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, 220-228. Retrieved September 12, 2009 from Education Research Comple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ir, A., &amp; Korat, O. (2006, March)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ect CD-ROM storybooks for young children: The teacher’s role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Reading Teacher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9(6), 532-543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ctober 3, 2009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ducation Research Comple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nton, A., &amp; Pagett, L. (2007, November). From ‘bored’ to screen: the use of the interactive whiteboard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eracy in six primary classrooms in England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Literacy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(3), 129-136. Retrieved October 3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cial development theory (Vygotsk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.d.). Retrieved October 3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earningtheories.com/vygotskys-social-learningthe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nberg, B. J., Kaplan, K. A., &amp; Borck, J. E. (2007). Enhancing adolescent literacy achievement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technology in the classroom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ding Research Quarterly, 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6-420. 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ber 2, 2009, from 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hell, J., &amp; Maitland, A. (2005, January). Primary pupils’ recall of interactive storybooks on CD-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nsiderate interactive features and forgetting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itish Journal of Educational Technology,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 57-66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ctober 11, 2009, from 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chauer, M., &amp; Grimes, D. (2008, January). Automated writing assessment in the classroom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dagogies: 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national Journal,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 22-36. Retrieved October 18, 2009, from Education Research Comple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lfson, G. (2008). Using audiobooks to meet the needs of adolescent reader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merican Secondary Educatio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, 105-114. Retrieved October 16, 2009 from 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725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ment of the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ment of the Research Hypoth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ment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out of 10 students in grades 3 to 8 are not reading at their grade lev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York City students are underperforming versus New York State (“New York City,” 2009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arrassment f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ology as possible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1611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692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ev Vygotsky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interaction, More Knowledgeable Other, Active role in learn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Social Development Theory,” n.d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oward Gard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Intelligences Theory</a:t>
            </a:r>
            <a:r>
              <a:rPr b="0" i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ardner, 2000; Gardner &amp; Walters, 199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Rita and Kenneth Du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learning sty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The Dunn and Dunn Learning Style Model of Instruction,” n.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lectronic Books / CD-ROM Story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 Jong &amp; Bus, 2002; Doty, Popplewell, &amp; Byers 2001; Grimshaw, Dungworth, McKnight, &amp; Morris, 2007; Lefever- Davis &amp; Pearman, 2005; Matthew, 1997; Mollin, 2005; Pearman, 2008; Pearman &amp; Lefever-Davis, 2006; Ricci &amp; Beal, 2002; Rhodes &amp; Milby, 2007; Shamir &amp; Korat, 2006; Trushell &amp; Maitland, 2005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iz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burden of 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s phonemic awareness, phonics, fluency, vocabulary, and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lectronic Books / CD-ROM Story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otivation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comprehension scores vs. traditional printed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n as a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eneficial to every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reliant on ‘help’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ptops /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rone &amp; Wright, 2008; Kaya, O’Connor-Petruso, &amp; Girelli-Carasi, 2010; McGrail, 2007; Mioduser, Tur-Kaspa, &amp; Leitner,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student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Quests, web sites, instant messaging, 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ead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, time, availability, support, teach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isolation, limited communication, off-task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2189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Interactive White Bo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henton &amp; Pagett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and facilitate student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ty of multimodal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05720" y="480060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rtificial Intellig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ernberg, Kaplan, &amp; Borck, 2007; Warschauer &amp; Grimes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writ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and increase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writing 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al re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4:14:32Z</dcterms:created>
  <dc:creator>Annie</dc:creator>
  <dc:description/>
  <dc:language>en-US</dc:language>
  <cp:lastModifiedBy>Annie</cp:lastModifiedBy>
  <dcterms:modified xsi:type="dcterms:W3CDTF">2009-12-16T18:27:31Z</dcterms:modified>
  <cp:revision>213</cp:revision>
  <dc:subject/>
  <dc:title>Slide 1</dc:title>
</cp:coreProperties>
</file>